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6A1-3298-4F6E-8F7B-3B3BA54F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A0F-D62D-4434-8B2D-CC25B80E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66C-B52B-4C39-BC89-8EBBBD3D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5B6-8827-4336-B12F-53597CB1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47C-4CA8-48EC-8BCC-BF2F1136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7ED-ACD5-4DA9-A5CE-9F39959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AEE-8F36-4E01-9C88-BE39CB0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CE2-BCD7-4A25-B3A8-98FFB075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A8E-16BA-41FD-AC6B-B8D4ACC1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6FF-90AF-460C-A5DC-402B15D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CDD-71C9-4F38-A405-58EF3A1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25F-DB07-4213-93A3-0DF91F4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893D-47AF-4616-A1EB-B707ADFB95A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ll.stic.gov.tw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94600" y="17557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  <a:ea typeface="標楷體"/>
              </a:rPr>
              <a:t>天成醫院圖書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439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1280" y="50529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98480" y="35416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2280" y="2971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  <a:ea typeface="標楷體"/>
              </a:rPr>
              <a:t>館際合作服務操作說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點選”天成醫院圖書館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”，按”確定”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044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6461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            </a:t>
            </a: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811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76520" y="2438280"/>
            <a:ext cx="99036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533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資料全部填寫完成後，請按”送出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892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318" t="45630" r="6038" b="15984"/>
          <a:stretch/>
        </p:blipFill>
        <p:spPr>
          <a:xfrm>
            <a:off x="228600" y="129528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81280" y="3962520"/>
            <a:ext cx="1295640" cy="6858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380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確認資料無誤後，請按”送出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89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20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7620120" cy="327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5943600"/>
            <a:ext cx="121932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133720"/>
            <a:ext cx="3808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4572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待本院圖書館館員處理後，將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寄發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E-mail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通知帳號與密碼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2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72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23924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76520" y="4038480"/>
            <a:ext cx="5181480" cy="990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304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收到系統確認信後，即可開始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館際合作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聯合目錄複印服務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892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5399" t="31934" r="24940" b="31732"/>
          <a:stretch/>
        </p:blipFill>
        <p:spPr>
          <a:xfrm>
            <a:off x="533520" y="1447920"/>
            <a:ext cx="8076960" cy="5067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76720" y="2971800"/>
            <a:ext cx="10666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276720"/>
            <a:ext cx="76212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09160" y="449568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(03)462929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2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4572000"/>
            <a:ext cx="213372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657600"/>
            <a:ext cx="12956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3640" y="3581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細明體"/>
              </a:rPr>
              <a:t>天晟醫院圖書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  <a:ea typeface="標楷體"/>
              </a:rPr>
              <a:t>中華民國科技館際合作協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聯合目錄期刊複印件申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628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22860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進入全國文獻傳遞服務系統，登入讀者專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488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24080" y="3733920"/>
            <a:ext cx="3276720" cy="9144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60520" y="990720"/>
            <a:ext cx="9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入帳號、密碼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0720" y="609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登入後，即可點選各項需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62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   </a:t>
            </a: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193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9640" y="1371600"/>
            <a:ext cx="7696440" cy="548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19640" y="4221000"/>
            <a:ext cx="1685880" cy="576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4221000"/>
            <a:ext cx="1685880" cy="576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4221000"/>
            <a:ext cx="1685880" cy="576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4221000"/>
            <a:ext cx="1152360" cy="432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4572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申請流程：以申請西文期刊為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1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點選”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查詢聯合目錄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，並提出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申請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”→”期刊聯合目錄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52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48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6520" y="4343400"/>
            <a:ext cx="190476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724280"/>
            <a:ext cx="1143000" cy="152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609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(2)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勾選”西文期刊聯合目錄”→確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628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95280" y="5105520"/>
            <a:ext cx="175284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95680"/>
            <a:ext cx="914400" cy="3812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什麼是全國文獻傳遞服務系統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8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全國館際合作服務系統是提供全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圖書館間文獻複印、圖書互借之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際合作服務系統，為提供全國圖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館間期刊、圖書等資源的流通，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到資源共享的目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5335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3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輸入欲查詢之字詞後，請點選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〔執行檢索〕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07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003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23420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52680" y="5715000"/>
            <a:ext cx="106704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457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(4)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點選所需之期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907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628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105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4114800"/>
            <a:ext cx="2895480" cy="1143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6204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0" t="16501" r="5854" b="8430"/>
          <a:stretch/>
        </p:blipFill>
        <p:spPr>
          <a:xfrm>
            <a:off x="685800" y="1143000"/>
            <a:ext cx="7696080" cy="2759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6204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0" t="30822" r="3470" b="6043"/>
          <a:stretch/>
        </p:blipFill>
        <p:spPr>
          <a:xfrm>
            <a:off x="-762120" y="3490920"/>
            <a:ext cx="9906120" cy="3443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520" y="5029200"/>
            <a:ext cx="12952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2860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5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顯示該期刊之資料及擁有之圖書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點選您所需卷期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圖書館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2438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華康細圓體"/>
              </a:rPr>
              <a:t>確認相關期刊資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480" y="27432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609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6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顯示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該館藏地之收費標準及傳遞方式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，點選”提出申請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89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002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352680" y="5029200"/>
            <a:ext cx="1828800" cy="7621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7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填妥下列資料後，點選”申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193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6477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19760" cy="3733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5990" t="16550" r="9434" b="9488"/>
          <a:stretch/>
        </p:blipFill>
        <p:spPr>
          <a:xfrm>
            <a:off x="838080" y="4038480"/>
            <a:ext cx="7315200" cy="3048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57400" y="5334120"/>
            <a:ext cx="2514600" cy="380880"/>
          </a:xfrm>
          <a:prstGeom prst="ellipse">
            <a:avLst/>
          </a:prstGeom>
          <a:noFill/>
          <a:ln w="63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57200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4000" y="396252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標楷體"/>
                <a:ea typeface="標楷體"/>
              </a:rPr>
              <a:t>可指定完成限期，若無法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標楷體"/>
                <a:ea typeface="標楷體"/>
              </a:rPr>
              <a:t>期限內完成則自動取消交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6515280"/>
            <a:ext cx="1218960" cy="6858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28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(8)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確認資料無誤後</a:t>
            </a:r>
            <a:r>
              <a:rPr b="1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，點選”確定申請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57400" y="4952880"/>
            <a:ext cx="1828800" cy="9144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09480" y="457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(9)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申請成功，將出現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申請件編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(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可供查詢申請件狀態時使用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892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0" t="16501" r="4662" b="22746"/>
          <a:stretch/>
        </p:blipFill>
        <p:spPr>
          <a:xfrm>
            <a:off x="533520" y="160020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971800" y="4419720"/>
            <a:ext cx="1600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2514600"/>
            <a:ext cx="1523880" cy="304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1752480"/>
            <a:ext cx="7467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該圖書館處理完成後，會將複印資料依照申請時的約定方式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寄送或傳真至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成醫院圖書館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由館員以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E-mail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方式通知申請讀者繳費及取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申請至取件約需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3-7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個工作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請參考各圖書館公告時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838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(10)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讀者繳費及取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7913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2"/>
          </p:cNvPr>
          <p:cNvSpPr/>
          <p:nvPr/>
        </p:nvSpPr>
        <p:spPr>
          <a:xfrm>
            <a:off x="2438280" y="5715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http://ill.stic.gov.t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1752480"/>
            <a:ext cx="57913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開卷有益建造書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圖書館誠摯邀請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一起來讀書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5943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天成醫院圖書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228600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使    用    步    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9279" t="23091" r="10309" b="6747"/>
          <a:stretch/>
        </p:blipFill>
        <p:spPr>
          <a:xfrm>
            <a:off x="1219320" y="1676520"/>
            <a:ext cx="7086600" cy="490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228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進入天成醫療事業體系網頁，點選「楊梅天成醫院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209680"/>
            <a:ext cx="1371600" cy="6098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0" t="0" r="0" b="5773"/>
          <a:stretch/>
        </p:blipFill>
        <p:spPr>
          <a:xfrm>
            <a:off x="914400" y="9907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43200" y="228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點選館際合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4952880"/>
            <a:ext cx="83844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中華民國文獻傳遞系統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NDD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首次使用須先申請帳號密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696440" cy="5429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3920" y="3429000"/>
            <a:ext cx="990360" cy="2286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52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先填寫基本資料，”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所屬圖書館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”欄位請點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92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628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2971800"/>
            <a:ext cx="3124440" cy="6094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029200" y="3962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25080" y="3525840"/>
            <a:ext cx="239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學號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:(1)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員工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識別證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院外人士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閱覽證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181480"/>
            <a:ext cx="4572000" cy="7621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5334120"/>
            <a:ext cx="381240" cy="380880"/>
          </a:xfrm>
          <a:prstGeom prst="rect">
            <a:avLst/>
          </a:prstGeom>
          <a:noFill/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關鍵字請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key”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天成醫院”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，按”查詢”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860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646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146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93348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05520" y="4038480"/>
            <a:ext cx="2361960" cy="533520"/>
          </a:xfrm>
          <a:prstGeom prst="wedgeRoundRectCallout">
            <a:avLst>
              <a:gd name="adj1" fmla="val -38912"/>
              <a:gd name="adj2" fmla="val 101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 Black"/>
                <a:ea typeface="標楷體"/>
              </a:rPr>
              <a:t>key</a:t>
            </a:r>
            <a:r>
              <a:rPr b="0" lang="zh-TW" sz="2000" spc="-1" strike="noStrike">
                <a:solidFill>
                  <a:srgbClr val="ff0000"/>
                </a:solidFill>
                <a:latin typeface="Arial Black"/>
                <a:ea typeface="細明體"/>
              </a:rPr>
              <a:t>天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6:35:04Z</dcterms:created>
  <dc:creator>user</dc:creator>
  <dc:description/>
  <dc:language>en-US</dc:language>
  <cp:lastModifiedBy>LIB-03</cp:lastModifiedBy>
  <dcterms:modified xsi:type="dcterms:W3CDTF">2012-08-28T02:27:09Z</dcterms:modified>
  <cp:revision>121</cp:revision>
  <dc:subject/>
  <dc:title>PowerPoint 簡報</dc:title>
</cp:coreProperties>
</file>